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495-EC42-4C3D-95DE-54EA5991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2FD-39AC-438B-A77C-4F872DAE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5A6-902D-46B9-BF84-42EF3681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E2D-31F9-4B29-92D5-CBC1B8F6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31D-F2EC-4B63-82A7-6464CE7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135-78BC-47B7-B666-03EF7E6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9A5-2E2B-42F3-B864-63A40357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7C0-B13D-47B5-953C-C48F5E4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294-E758-4066-B31C-E44327C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0E7-2528-4297-A079-EAB0727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D76-4AAC-4B21-AE8B-BC75F01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326-B955-4C4C-B577-1385941C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FCF22-04CB-407C-A735-379B57A834A6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152280" y="3498840"/>
            <a:ext cx="2840040" cy="201600"/>
            <a:chOff x="152280" y="3498840"/>
            <a:chExt cx="2840040" cy="201600"/>
          </a:xfrm>
        </p:grpSpPr>
        <p:pic>
          <p:nvPicPr>
            <p:cNvPr id="44" name="Imagen 6" descr=""/>
            <p:cNvPicPr/>
            <p:nvPr/>
          </p:nvPicPr>
          <p:blipFill>
            <a:blip r:embed="rId2"/>
            <a:stretch/>
          </p:blipFill>
          <p:spPr>
            <a:xfrm>
              <a:off x="2291040" y="3562920"/>
              <a:ext cx="701280" cy="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3498840"/>
              <a:ext cx="2061360" cy="20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07:40Z</dcterms:modified>
  <cp:revision>7</cp:revision>
  <dc:subject/>
  <dc:title>PowerPoint Presentation</dc:title>
</cp:coreProperties>
</file>